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whoosh.wav" ContentType="audio/x-wav"/>
  <Override PartName="/ppt/media/image3.jpeg" ContentType="image/jpeg"/>
  <Override PartName="/ppt/media/image4.png" ContentType="image/png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52000" y="684360"/>
            <a:ext cx="455796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5980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b">
            <a:noAutofit/>
          </a:bodyPr>
          <a:lstStyle>
            <a:lvl1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fld id="{D9B945CD-830D-471A-9FF5-C61F65044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52360" y="684360"/>
            <a:ext cx="4557960" cy="34178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30800"/>
            <a:ext cx="5486400" cy="410184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duce short term extinction ri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Supplementation may be used to reduce the risk that a population on the verge of extirpation will be lost by expeditiously boosting the number of emigrating juveniles in a given brood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eserve population while factors for decline are being addresse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Supplementation may be used to preserve or increase summer chum salmon populations while other factors causing decreased abundances are add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peed recovery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pplementation may be used to accelerate recovery of populations by increasing abundances in a shorter time frame than may be achievable through natural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stablish a reserve population for use if the natural population suffers a catastrophic los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pplementation programs may be used to create an additional reservoir for a particular summer chum genome to prevent loss of the entire population due to natural or anthropogenic catastroph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seed vacant habitat capable of supporting salmo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Summer chum salmon may be reintroduced to streams where populations have been extirpated and the causes of extirpation are being addre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vide scientific information regarding the use of supplementation in conserving natural population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Valuable information indicating the effectiveness and effects of supplementation in recovering summer chum salmon can be col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8B1A3-4F8F-4D44-93BB-D3A6A99E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864C-D685-4157-B380-78974D7DE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3BC5-82CE-4CDB-B441-A928CA05E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42E7-26AC-4430-A65E-8E372D9DE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A2132-004C-4341-B89B-F5674CA45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3B400-F810-4002-9B52-F201B271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8266A-C6DE-4E6C-A211-52FB23AD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8379E4-197E-4754-8202-C407D098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FEDBF-B95C-48E3-BE0F-E06F644DC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4F379-578F-4296-B1E7-FD7F3670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80C0C5-112E-4310-B503-40CAD6974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5226-E7CD-40A7-8560-424D80370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672027-0416-4D38-810F-9F5A7D9D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9A57DC-2F52-4B43-BED4-083477E0B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867EF-0906-4A2C-95BF-891A74841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30EA4C-E1D6-4103-A6BB-3146119B4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D78426-813E-4326-BC89-810662EBA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72E-3191-4168-B2B0-7314E9094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C301-DE3B-47F3-A90C-22651559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F7B7-0CD2-4509-A953-367469D99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E7C8-8076-4BDE-87D1-7939F50A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F132-98AD-4A13-8628-B63D8721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125C-6F4E-44B0-83BD-B117025B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FB65-4A09-41FD-B2C4-325E1DBE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63BCD-998E-4EEC-B928-80739FEE90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D773C-2591-4827-A61D-F51F573B6E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wa.gov/wdfw/fish/chum/chum.htm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Addressing the Potential Effect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f Hatchery Interaction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on the ESA-listed Species,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Hood Canal (Washington) Summer Chum Salm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066320" y="3809880"/>
            <a:ext cx="678204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im Tyna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OAA Fisher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Chris Well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Point No Point Treaty Counci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hom H. Johns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ashington Department of Fish and Wildlif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943600" y="4495680"/>
            <a:ext cx="1066680" cy="800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562720" y="3733920"/>
            <a:ext cx="685800" cy="6681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6705720" y="5486400"/>
            <a:ext cx="682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isk Ratings for Competition and Behavioral Modific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IGH Ris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f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 no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part of a formal recovery program, unable to remove &gt;90% of returning hatchery chinook, coho, fall chum or pink spawners (i.e., risk of redd super-imposition and/or competi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fed or fed fall chum or pink fry released before Apr.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(i.e., overlaps with natural outmigration timin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lease timing of hatchery fish is unknow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RATE Risk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all chinook released from marine area netpens (i.e., potential straying of spawners into summer chum stream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457200" y="291600"/>
            <a:ext cx="8229600" cy="572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k Aversion Measures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 Fish Disease Transf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pply protocol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of Pacific Northwest Fish Health Protection Committee (PNFHPC 1989) and Salmonid Disease Control Policy of the Fisheries Co-managers of Washington State (NWIFC and WDFW 1998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spect prior to releas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all hatchery production by WDFW or USFWS fish pathologists to certify their disease status and health condi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lement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1066680"/>
            <a:ext cx="8381880" cy="297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isk aversion and m&amp;e measures were specified for each hatchery program and implemented beginning in 1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Most programs were rated Low risk for all categori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914400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mplementation (cont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915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Programs with High or Moderate risks implemented common measure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elayed release of fall chum or pink fry until after April 1st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o reduce risks of predator attraction or competition for food, or changes in feeding behavior or use of preferred migration areas by summer chum f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scontinued programs releasing hatchery-origin chinook or fall chum in summer chum streams, unless part of a formal recovery program;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Reasons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to reduce risk of competition, redd super-imposition and behavior modification with summer chum adul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15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t follow fish health protocols and reporting requirements; N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ot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applied to several volunteer/coop projec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isk assessment process and implementation have generally been successfu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hatchery programs have been terminated in response to concern about hatchery inter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d changes have been done with limited effect on day-to-day hatchery oper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 complications with loadings and pond mgt, but all do-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rminated programs eased up other program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ll volunteer coop projects are now consistent with guide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tchery interactions measures have been incorporated in hatchery ESA 4(d) rule issued by NOAA Fisheri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Bottom 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isks to summer chum are reduce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th ESA listings and concerns for recovery of wild popl’ns, there is increasing focus on potential interactions b/w hatchery and wild f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te and Tribal Co-managers in Washington decided to 1) identify potential negative impacts of hatcheries on ESA-listed summer chum salmon and 2) identify mitigative measures to minimize any risks to summer chu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e describe here the approach used and report on initial outcom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ckground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ch 1999, ESA listing of Hood Canal summer chum salmon Evolutionarily Sig. Unit (ESU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April 2000, Co-managers completed the “Summer Chum Salmon Conservation Initiative, An Implementation Plan to Recover Summer Chum in the Hood Canal and Strait of Juan de Fuca Region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Tahoma"/>
                <a:hlinkClick r:id="rId2"/>
              </a:rPr>
              <a:t>http://www.wa.gov/wdfw/fish/chum/chum.htm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2002, ESA 4(d) rule requirements incorporated the hatchery conservation measures identified in the SCSCI (i.e., Resource Mgt Plan – RMP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398600" y="152280"/>
            <a:ext cx="5275080" cy="670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ackground (cont.)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of hatcheries is long-standing and important in the Hood Canal region with WDFW, Tribal, and USFWS facilities, and cooperative projects by volunteer fish enhancement group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atchery objectives include providing surplus fish for harvest, mitigation for fish production losses due to habitat degradation, and wild salmonid stock recov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ar chinook, coho, chum, and pink salmon and steelhead; trout also, but not discussed he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240" y="291600"/>
            <a:ext cx="89154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ssessing 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Potential Risks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of Hatchery Activities on Summer Chum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0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verlaid summer chum life history with release/migration timing of hatchery fis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Direct impac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physical operation of hatcheri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Ecological impact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interactions b/w hatchery fish and summer chum: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risk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ue to predation, competition/behavior modification, fish disease transf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685800" y="380880"/>
          <a:ext cx="7924680" cy="6477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380880"/>
                    <a:ext cx="7924680" cy="647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eneral Approac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762120"/>
            <a:ext cx="8382240" cy="70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ed ratings for each risk category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ed appropriate risk aversion (r.a.) measures for each risk categ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dentified monitoring/evaluation (m&amp;e) measures to help make sure the risk aversion measures were implemented successfu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n, rated risks of each hatchery program and identified the r.a. and m&amp;e measures needed to reduce any moderate or high risk to a low r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229600" cy="11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isk Ratings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r Hatchery Operation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HIGH risk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roodstock trap on summer chum stream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an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not checked 2X a day or hold chum for &gt;24 hrs or not handled proper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intakes/outlets are not screene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ter withdrawal reduces flows w/ negative impact on summer chum strea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ut of compliance with NPDES permit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1:12:48Z</dcterms:created>
  <dc:creator>TynanT</dc:creator>
  <dc:description/>
  <dc:language>en-US</dc:language>
  <cp:lastModifiedBy>Bob Smith</cp:lastModifiedBy>
  <dcterms:modified xsi:type="dcterms:W3CDTF">2004-03-19T17:19:24Z</dcterms:modified>
  <cp:revision>160</cp:revision>
  <dc:subject/>
  <dc:title>Supplementation Standards for Rebuilding Hood Canal Summer Chum Populations</dc:title>
</cp:coreProperties>
</file>